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3F04-B34D-48A8-AA07-40FDCB62DC6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zione come in modalità pres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operazionismo a 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ta programma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sito scelta multi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sposta esatta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tto: Questo esempio, descritto da Bailey, esprime in pieno l’esigenza di trasformare in operazioni concrete le proposizioni e le ipotesi da verificare. In altre parole, la felicità e la genialità non sono concetti astratti, ciò che è misurato attraverso specifiche operazioni come ad esempio, la somministrazione di un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enzione. Questa proposizione non traduce in termini operativi l’affermazione ‘I geni sono infelici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co a 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ico a slid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o a 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o a 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erca azione a 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imentale a slid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16DA-1A10-485C-A13A-411C72543C9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iettivi, ipotesi e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i obiettiv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ipotes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60280" y="7621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descrit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12400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 sempre disponiamo di precise ipotesi di ricerca e dunque è necessario iniziare lo studio di un fenomeno da indagini esplorative e descri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nel lavoro sulla dispersione nell'università, all'inizio conoscevamo molto poco sulle caratteristiche del fenomeno e sulla sua entità numerica. C‘era ancora bisogno di classificare i "tipi" di abbandono diver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udio descrit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isponde alla domanda "Che cosa sta accadendo?", in contrapposizione agli studi esplicativi che mirano a spiegare il perché e il come è acca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91160" y="7621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basate su corre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39068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cerca basata su correlazio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samina i fenomeni senza intervenire su di essi per modificarli (se non per il fatto di rilevare i dat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le grandi indagini internazionali dell’IEA o la OCSE-PISA sono indagini basate sulla ricerca di relazio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si cerca è la conferma delle nostre ipotesi sulle relazioni tra le variabili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sta ipotesi viene confermata da appositi test statist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conferma di una associazione non casuale tra variabili non consente di affermare un nesso cau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965320"/>
            <a:ext cx="3276720" cy="282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233440"/>
            <a:ext cx="2743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960" y="7621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sperimen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55880"/>
            <a:ext cx="37339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aratte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periment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quegli studi che consentono di verificare gli effetti di un intervento (trattamento) su una variabile assunta come dipend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disegno sperimentale definisce le procedure da adottare e i tipi di controllo necessari perché le informazioni ricavate dall’esperimento possano essere utilizz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studio sperimentale verifica l’ipotesi “L’introduzione della variabi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trattamento)  causerà la  [tale] modifica della variab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82840" y="2217600"/>
            <a:ext cx="1031760" cy="1219320"/>
            <a:chOff x="1482840" y="2217600"/>
            <a:chExt cx="1031760" cy="1219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52656" b="0"/>
            <a:stretch/>
          </p:blipFill>
          <p:spPr>
            <a:xfrm>
              <a:off x="1482840" y="2217600"/>
              <a:ext cx="4982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52656" b="0"/>
            <a:stretch/>
          </p:blipFill>
          <p:spPr>
            <a:xfrm>
              <a:off x="2016000" y="2217600"/>
              <a:ext cx="4986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71400" y="3513240"/>
            <a:ext cx="2293920" cy="764280"/>
            <a:chOff x="1571400" y="3513240"/>
            <a:chExt cx="2293920" cy="764280"/>
          </a:xfrm>
        </p:grpSpPr>
        <p:sp>
          <p:nvSpPr>
            <p:cNvPr id="145" name=""/>
            <p:cNvSpPr/>
            <p:nvPr/>
          </p:nvSpPr>
          <p:spPr>
            <a:xfrm>
              <a:off x="1571400" y="35132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Wingdings 3"/>
                  <a:ea typeface="Wingdings 3"/>
                </a:rPr>
                <a:t>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440" y="3589200"/>
              <a:ext cx="126288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ariabil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3880" y="4199040"/>
            <a:ext cx="2362320" cy="1135080"/>
            <a:chOff x="1523880" y="4199040"/>
            <a:chExt cx="2362320" cy="1135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152388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05740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4427640"/>
              <a:ext cx="129528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ifica variabil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1631880"/>
            <a:ext cx="6858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 Un'ipotesi  è una affermazione su un evento futuro o comunque su un evento il cui esito è sconosciuto al momento in cui viene fatta l'affermazione, costruita in modo di poter essere respinta” (Bla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formulare ipotesi verificabile è necessari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 concetti, cioè definirli sulla base di un corrispondente gruppo di operaz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amo quindi  ‘metodo’ quel percorso che stabilisce l’impianto complessivo dell’attività di ricerca e ne è costitutivo della sua scient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odalità di ricerca possono essere di tre tipi: descrittiva, basata su correlazioni e speriment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208560" cy="436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28720" y="1832040"/>
            <a:ext cx="5789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ncetto di operazionismo è legato al lavoro del fisico Percy W.  Bridgman (1948), che muoveva dall'idea che i concetti scientifici dovessero essere, come i dati scientifici, pubb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 ; il concetto è sinonimo del corrispondente gruppo di operazioni" (Bridgman, 1948, trad. it. 1973, p. 37) Esiste tuttavia la possibilità di derivare i concetti dalle teorie. (spieg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ridgman P.W. (1948)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The logic of Modern Phyisics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New Yor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cmillan; trad. it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La logica della fisica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Torino, Boringhieri, 197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7360" y="5078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52140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47880" y="1870200"/>
            <a:ext cx="600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torico ha dato vita a un settore fortemente sviluppato degli studi pedagogici. Questo tipo di ricerca dedica i suoi sforzi all’esame delle dottrine pedagogiche, delle pratiche educative, della scuola e delle altre istituzioni formative. L’impianto metodologico è legato all’esame delle fonti e ai diversi paradigmi storiografici che regolano la ricostruzione, la narrazione e l’interpretazione di eventi e dottr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336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8520" y="5673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09520" y="2502000"/>
            <a:ext cx="6205680" cy="376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2593800"/>
            <a:ext cx="54561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teorico è volto ad approfondire con strumenti conoscitivi di tipo logico ed epistemologico gli apparati concettuali e i costrutti teorici che stanno alla base della ricerca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ttavia, fare ricerca teorica non significa estraniarsi alla dimensione empirica dell’esperienza che resta sempre un punto di riferimento costante per le ricerche in campo educ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368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6953400" cy="4434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1832040"/>
            <a:ext cx="6724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linico è una modalità di ricerca che mette al centro del suo interesse l’individuo, nella sua particolarità e nella sua storia pers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ù in generale, oggi si intende con approccio clinico un modo di comprendere e spiegare casi concreti e situazioni individuali con particolare attenzione all’analisi qualitativa di singoli casi individuali. Ciò non toglie che, come nel campo medico e psicologico, prevede la possibilità di generalizzazioni quantit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0840" y="53989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7467480" cy="2614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760" y="1832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omparativo adotta il confronto sistematico tra modelli educativi e sistemi formativi di differenti contesti regionali e nazionali. L’educazione comparata può essere, infatti, definita come: la scienza che scopre, analizza e spiega le somiglianze e le differenze fra i fatti educativi nelle loro relazioni con il contesto politico, economico, sociale e cultu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3160" y="3846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8320" y="3846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846600"/>
            <a:ext cx="733680" cy="274680"/>
          </a:xfrm>
          <a:custGeom>
            <a:avLst/>
            <a:gdLst>
              <a:gd name="textAreaLeft" fmla="*/ 17640 w 733680"/>
              <a:gd name="textAreaRight" fmla="*/ 716040 w 733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7647" h="21600">
                <a:moveTo>
                  <a:pt x="0" y="0"/>
                </a:moveTo>
                <a:lnTo>
                  <a:pt x="57647" y="0"/>
                </a:lnTo>
                <a:lnTo>
                  <a:pt x="57647" y="21600"/>
                </a:lnTo>
                <a:lnTo>
                  <a:pt x="0" y="21600"/>
                </a:lnTo>
                <a:close/>
              </a:path>
              <a:path fill="lightenLess" w="57647" h="21600">
                <a:moveTo>
                  <a:pt x="0" y="0"/>
                </a:moveTo>
                <a:lnTo>
                  <a:pt x="57647" y="0"/>
                </a:lnTo>
                <a:lnTo>
                  <a:pt x="56247" y="1400"/>
                </a:lnTo>
                <a:lnTo>
                  <a:pt x="1400" y="1400"/>
                </a:lnTo>
                <a:close/>
              </a:path>
              <a:path fill="darken" w="57647" h="21600">
                <a:moveTo>
                  <a:pt x="57647" y="0"/>
                </a:moveTo>
                <a:lnTo>
                  <a:pt x="57647" y="21600"/>
                </a:lnTo>
                <a:lnTo>
                  <a:pt x="56247" y="20200"/>
                </a:lnTo>
                <a:lnTo>
                  <a:pt x="56247" y="1400"/>
                </a:lnTo>
                <a:close/>
              </a:path>
              <a:path fill="darkenLess" w="57647" h="21600">
                <a:moveTo>
                  <a:pt x="5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47" y="20200"/>
                </a:lnTo>
                <a:close/>
              </a:path>
              <a:path fill="lighten" w="5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4582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1832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i ricerca-azione, è un tipo di indagine riflessiva, orientata all’azione e al cambiamento, è condotta da ricercatori che indagano sulle proprie azioni al fine di risolvere situazioni problematiche e tentare di apportare dei miglioramenti. Si tratta di un modo collaborativo attualmente molto discusso per le finalità gli ambiti di applicazione e l’attendibilità dei sui risult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3360" y="3863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49840" y="762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li obiettiv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4114800" cy="4324320"/>
          </a:xfrm>
          <a:prstGeom prst="rect">
            <a:avLst/>
          </a:prstGeom>
          <a:solidFill>
            <a:srgbClr val="bfcfe0"/>
          </a:solidFill>
          <a:ln w="15840">
            <a:solidFill>
              <a:srgbClr val="3333cc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16320"/>
            <a:ext cx="3221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"Un'ipotesi  è una affermazione su un evento futuro o comunque su un evento il cui esito è sconosciuto al momento in cui viene fatta l'affermazione costruita in modo di poter essere respin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Blalock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624" t="0" r="0" b="0"/>
          <a:stretch/>
        </p:blipFill>
        <p:spPr>
          <a:xfrm>
            <a:off x="609480" y="1981080"/>
            <a:ext cx="30481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1160" y="1603440"/>
            <a:ext cx="7962840" cy="384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1160" y="183204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perimentale adotta procedure di ricerca rigorose e controllate. L’esperimento in senso stretto prevede l’intervento attivo dello sperimentatore che opera introducendo, sulla base di un modello teorico rigoroso e in una situazione fortemente controllata, una o più variabili indipendenti per verificare gli effetti di queste sulla variabile dipendente, stabilendo un rapporto di causa ed effetto tra l’intervento effettuato e il risultato osservato. Rientrano in questo approccio anche le ricerche basate sull’analisi delle ‘correlazioni’ tra varia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3360" y="487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3436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2190600"/>
            <a:ext cx="3733920" cy="272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1752480"/>
            <a:ext cx="40388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 può dire di aver verificato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otesi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ti i possibili risultati dell'esperimento o dell'osservazione sono stati definiti prima della veri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a della verifica sono stati decise le procedure che verranno utilizzate per accertare 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' stato deciso in anticipo quali tra i possibili risultati porteranno a respingere l'ipotesi o ad accettar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è effettuato un esperimento con rigorosa osservazione delle procedure per la rilevazione dei 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56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48200" y="2476440"/>
            <a:ext cx="3124440" cy="1123920"/>
            <a:chOff x="5848200" y="2476440"/>
            <a:chExt cx="3124440" cy="1123920"/>
          </a:xfrm>
        </p:grpSpPr>
        <p:sp>
          <p:nvSpPr>
            <p:cNvPr id="66" name=""/>
            <p:cNvSpPr/>
            <p:nvPr/>
          </p:nvSpPr>
          <p:spPr>
            <a:xfrm>
              <a:off x="5848200" y="2476440"/>
              <a:ext cx="3124440" cy="112392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5440" y="2647800"/>
              <a:ext cx="2743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’utilizzazione sistematica di audiovisivi favorisce nella scuola media un apprendimento migliore delle lingue strani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57240" y="4194000"/>
            <a:ext cx="3143520" cy="1216080"/>
            <a:chOff x="-57240" y="4194000"/>
            <a:chExt cx="3143520" cy="1216080"/>
          </a:xfrm>
        </p:grpSpPr>
        <p:sp>
          <p:nvSpPr>
            <p:cNvPr id="69" name=""/>
            <p:cNvSpPr/>
            <p:nvPr/>
          </p:nvSpPr>
          <p:spPr>
            <a:xfrm>
              <a:off x="-57240" y="4194000"/>
              <a:ext cx="3143520" cy="121608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4346640"/>
              <a:ext cx="2743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siste una correlazione significativa tra il livello della spesa e dell'investimento formativo ed i risultati di apprendimento degli studenti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38160" y="2381400"/>
            <a:ext cx="3143160" cy="1353960"/>
            <a:chOff x="-38160" y="2381400"/>
            <a:chExt cx="3143160" cy="1353960"/>
          </a:xfrm>
        </p:grpSpPr>
        <p:sp>
          <p:nvSpPr>
            <p:cNvPr id="72" name=""/>
            <p:cNvSpPr/>
            <p:nvPr/>
          </p:nvSpPr>
          <p:spPr>
            <a:xfrm>
              <a:off x="-38160" y="238140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" y="2400480"/>
              <a:ext cx="304812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velli di profitto in italiano alla fine della scuola elementare degli studenti che hanno frequentato la scuola materna sono migliori di quelli degli studenti che non la hanno frequent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1523880"/>
            <a:ext cx="830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'organizzazione dell’attività formativa può essere oggetto di ricerca sperimentale. Ecco 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829480" y="4118040"/>
            <a:ext cx="3143160" cy="1353960"/>
            <a:chOff x="5829480" y="4118040"/>
            <a:chExt cx="3143160" cy="1353960"/>
          </a:xfrm>
        </p:grpSpPr>
        <p:sp>
          <p:nvSpPr>
            <p:cNvPr id="76" name=""/>
            <p:cNvSpPr/>
            <p:nvPr/>
          </p:nvSpPr>
          <p:spPr>
            <a:xfrm>
              <a:off x="5829480" y="411804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4194000"/>
              <a:ext cx="297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Gli studenti che nel corso della scuola media hanno studiato con procedure di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Verdana"/>
                </a:rPr>
                <a:t>Mastery Learning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ottengono risultati migliori rispetto a studenti che hanno seguito procedure tradizion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78042" descr=""/>
          <p:cNvPicPr/>
          <p:nvPr/>
        </p:nvPicPr>
        <p:blipFill>
          <a:blip r:embed="rId1"/>
          <a:srcRect l="0" t="0" r="0" b="9094"/>
          <a:stretch/>
        </p:blipFill>
        <p:spPr>
          <a:xfrm>
            <a:off x="3505320" y="2743200"/>
            <a:ext cx="207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0160" y="1833480"/>
            <a:ext cx="42670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 procedure e gli strumenti di controllo dell’attività formativa possono essere oggetti di ricer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ogetto Pilota 2 non fornisce misure valide ed attendibili e dunque è solo uno spreco di riso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37339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406520"/>
            <a:ext cx="426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formulare ipotesi verificabili è necessari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i concetti, cioè definirli a livello empiric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è necessario che una proposizione contenga una sola ipotesi per poter essere facilmente verific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it-IT" sz="1800" spc="-1" strike="noStrike" u="sng">
                <a:solidFill>
                  <a:srgbClr val="0033cc"/>
                </a:solidFill>
                <a:uFillTx/>
                <a:latin typeface="Verdana"/>
              </a:rPr>
              <a:t>operazionism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è legato al lavoro del fisico Percy W.  Bridgman che muoveva dall'idea che i concetti scientifici dovessero essere, come i dati scientifici, pubb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0652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; il concetto è sinonimo del corrispondente gruppo di operazion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1600200" cy="22636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753200" y="54100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ercy W.  Brid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1219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00400"/>
            <a:ext cx="0" cy="1143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343400"/>
            <a:ext cx="6858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5848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09800"/>
            <a:ext cx="6972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"Quanto più elevato è il punteggio al test di intelligenza XY tanto più basso è il punteggio al test di felicità WZ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il concetto di genialità ha un significato opposto e incompatibile con il concetto di felicità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L’osservazione di un gruppo  di persone ritenute geniali ha evidenziato un’alta correlazione con un sentimento di infelicità pers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6836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uendo i principi dell’operazionismo la proposizione "I geni sono infelici", potrebbe essere verificata solo se trasformata in una nuova proposizione in grado di stabilire un rapporto (operazionale) tra i due concet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e, tra le seguenti proposizioni, rispetta i criteri dell’operazionism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2360" y="5705640"/>
            <a:ext cx="3417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6928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1905120"/>
            <a:ext cx="396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lcuni trattati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termine metodo viene dal greco ed è composto da un prefisso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μετά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indica il seguire qualcosa e dalla parola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όδός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significa strada, perco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i definiremo con ‘metodo’: quel percorso che stabilisce l’impianto complessivo dell’attività di ricerca e ne è costitutivo della sua scientificità.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960" y="1959120"/>
            <a:ext cx="3070080" cy="345096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5020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2971800"/>
            <a:ext cx="1599840" cy="457200"/>
            <a:chOff x="1219320" y="2971800"/>
            <a:chExt cx="1599840" cy="457200"/>
          </a:xfrm>
        </p:grpSpPr>
        <p:sp>
          <p:nvSpPr>
            <p:cNvPr id="99" name=""/>
            <p:cNvSpPr/>
            <p:nvPr/>
          </p:nvSpPr>
          <p:spPr>
            <a:xfrm>
              <a:off x="1219320" y="3036600"/>
              <a:ext cx="1599840" cy="326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971800"/>
              <a:ext cx="135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te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2514600"/>
            <a:ext cx="1599840" cy="533160"/>
            <a:chOff x="1219320" y="2514600"/>
            <a:chExt cx="1599840" cy="533160"/>
          </a:xfrm>
        </p:grpSpPr>
        <p:sp>
          <p:nvSpPr>
            <p:cNvPr id="102" name=""/>
            <p:cNvSpPr/>
            <p:nvPr/>
          </p:nvSpPr>
          <p:spPr>
            <a:xfrm>
              <a:off x="1219320" y="2633400"/>
              <a:ext cx="1599840" cy="338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514600"/>
              <a:ext cx="1370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st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9320" y="3352680"/>
            <a:ext cx="1599840" cy="457200"/>
            <a:chOff x="1219320" y="3352680"/>
            <a:chExt cx="1599840" cy="457200"/>
          </a:xfrm>
        </p:grpSpPr>
        <p:sp>
          <p:nvSpPr>
            <p:cNvPr id="105" name=""/>
            <p:cNvSpPr/>
            <p:nvPr/>
          </p:nvSpPr>
          <p:spPr>
            <a:xfrm>
              <a:off x="1219320" y="3424680"/>
              <a:ext cx="1599840" cy="326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3352680"/>
              <a:ext cx="125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cli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9320" y="3809880"/>
            <a:ext cx="16002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mpa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114800"/>
            <a:ext cx="1599840" cy="533520"/>
            <a:chOff x="1219320" y="4114800"/>
            <a:chExt cx="1599840" cy="533520"/>
          </a:xfrm>
        </p:grpSpPr>
        <p:sp>
          <p:nvSpPr>
            <p:cNvPr id="109" name=""/>
            <p:cNvSpPr/>
            <p:nvPr/>
          </p:nvSpPr>
          <p:spPr>
            <a:xfrm>
              <a:off x="1219320" y="4205160"/>
              <a:ext cx="1599840" cy="366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159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icerca-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19320" y="4648320"/>
            <a:ext cx="16002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743200"/>
            <a:ext cx="221004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2210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ata su correl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71560" y="19954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alità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2971800"/>
            <a:ext cx="1600200" cy="16002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484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blema da risolv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95680"/>
            <a:ext cx="22096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51460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480" y="243828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00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9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La ricerca ruota attorno ad un obiettivo centrale rappresentato dal problema da risolvere. Può essere classificata sulla base dei differenti ‘tipi’ e sulla base delle differenti ‘modali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760" y="5581800"/>
            <a:ext cx="33685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1800" y="5645160"/>
            <a:ext cx="29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Verdana"/>
              </a:rPr>
              <a:t>Fai clic sui differenti tipi di ricerca per una breve descr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562040" y="2633760"/>
            <a:ext cx="914400" cy="338040"/>
          </a:xfrm>
          <a:custGeom>
            <a:avLst/>
            <a:gdLst>
              <a:gd name="textAreaLeft" fmla="*/ 21600 w 914400"/>
              <a:gd name="textAreaRight" fmla="*/ 892800 w 91440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58389" h="21600">
                <a:moveTo>
                  <a:pt x="0" y="0"/>
                </a:moveTo>
                <a:lnTo>
                  <a:pt x="58389" y="0"/>
                </a:lnTo>
                <a:lnTo>
                  <a:pt x="58389" y="21600"/>
                </a:lnTo>
                <a:lnTo>
                  <a:pt x="0" y="21600"/>
                </a:lnTo>
                <a:close/>
              </a:path>
              <a:path fill="lightenLess" w="58389" h="21600">
                <a:moveTo>
                  <a:pt x="0" y="0"/>
                </a:moveTo>
                <a:lnTo>
                  <a:pt x="58389" y="0"/>
                </a:lnTo>
                <a:lnTo>
                  <a:pt x="56989" y="1400"/>
                </a:lnTo>
                <a:lnTo>
                  <a:pt x="1400" y="1400"/>
                </a:lnTo>
                <a:close/>
              </a:path>
              <a:path fill="darken" w="58389" h="21600">
                <a:moveTo>
                  <a:pt x="58389" y="0"/>
                </a:moveTo>
                <a:lnTo>
                  <a:pt x="58389" y="21600"/>
                </a:lnTo>
                <a:lnTo>
                  <a:pt x="56989" y="20200"/>
                </a:lnTo>
                <a:lnTo>
                  <a:pt x="56989" y="1400"/>
                </a:lnTo>
                <a:close/>
              </a:path>
              <a:path fill="darkenLess" w="58389" h="21600">
                <a:moveTo>
                  <a:pt x="5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89" y="20200"/>
                </a:lnTo>
                <a:close/>
              </a:path>
              <a:path fill="lighten" w="5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562040" y="3036960"/>
            <a:ext cx="914400" cy="315720"/>
          </a:xfrm>
          <a:custGeom>
            <a:avLst/>
            <a:gdLst>
              <a:gd name="textAreaLeft" fmla="*/ 20160 w 914400"/>
              <a:gd name="textAreaRight" fmla="*/ 894240 w 9144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62512" h="21600">
                <a:moveTo>
                  <a:pt x="0" y="0"/>
                </a:moveTo>
                <a:lnTo>
                  <a:pt x="62512" y="0"/>
                </a:lnTo>
                <a:lnTo>
                  <a:pt x="62512" y="21600"/>
                </a:lnTo>
                <a:lnTo>
                  <a:pt x="0" y="21600"/>
                </a:lnTo>
                <a:close/>
              </a:path>
              <a:path fill="lightenLess" w="62512" h="21600">
                <a:moveTo>
                  <a:pt x="0" y="0"/>
                </a:moveTo>
                <a:lnTo>
                  <a:pt x="62512" y="0"/>
                </a:lnTo>
                <a:lnTo>
                  <a:pt x="61112" y="1400"/>
                </a:lnTo>
                <a:lnTo>
                  <a:pt x="1400" y="1400"/>
                </a:lnTo>
                <a:close/>
              </a:path>
              <a:path fill="darken" w="62512" h="21600">
                <a:moveTo>
                  <a:pt x="62512" y="0"/>
                </a:moveTo>
                <a:lnTo>
                  <a:pt x="62512" y="21600"/>
                </a:lnTo>
                <a:lnTo>
                  <a:pt x="61112" y="20200"/>
                </a:lnTo>
                <a:lnTo>
                  <a:pt x="61112" y="1400"/>
                </a:lnTo>
                <a:close/>
              </a:path>
              <a:path fill="darkenLess" w="62512" h="21600">
                <a:moveTo>
                  <a:pt x="62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12" y="20200"/>
                </a:lnTo>
                <a:close/>
              </a:path>
              <a:path fill="lighten" w="62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1219320" y="3424320"/>
            <a:ext cx="1600200" cy="326880"/>
          </a:xfrm>
          <a:custGeom>
            <a:avLst/>
            <a:gdLst>
              <a:gd name="textAreaLeft" fmla="*/ 20880 w 1600200"/>
              <a:gd name="textAreaRight" fmla="*/ 1579320 w 1600200"/>
              <a:gd name="textAreaTop" fmla="*/ 20880 h 326880"/>
              <a:gd name="textAreaBottom" fmla="*/ 306000 h 326880"/>
            </a:gdLst>
            <a:ahLst/>
            <a:rect l="textAreaLeft" t="textAreaTop" r="textAreaRight" b="textAreaBottom"/>
            <a:pathLst>
              <a:path w="105648" h="21600">
                <a:moveTo>
                  <a:pt x="0" y="0"/>
                </a:moveTo>
                <a:lnTo>
                  <a:pt x="105648" y="0"/>
                </a:lnTo>
                <a:lnTo>
                  <a:pt x="105648" y="21600"/>
                </a:lnTo>
                <a:lnTo>
                  <a:pt x="0" y="21600"/>
                </a:lnTo>
                <a:close/>
              </a:path>
              <a:path fill="lightenLess" w="105648" h="21600">
                <a:moveTo>
                  <a:pt x="0" y="0"/>
                </a:moveTo>
                <a:lnTo>
                  <a:pt x="105648" y="0"/>
                </a:lnTo>
                <a:lnTo>
                  <a:pt x="104248" y="1400"/>
                </a:lnTo>
                <a:lnTo>
                  <a:pt x="1400" y="1400"/>
                </a:lnTo>
                <a:close/>
              </a:path>
              <a:path fill="darken" w="105648" h="21600">
                <a:moveTo>
                  <a:pt x="105648" y="0"/>
                </a:moveTo>
                <a:lnTo>
                  <a:pt x="105648" y="21600"/>
                </a:lnTo>
                <a:lnTo>
                  <a:pt x="104248" y="20200"/>
                </a:lnTo>
                <a:lnTo>
                  <a:pt x="104248" y="1400"/>
                </a:lnTo>
                <a:close/>
              </a:path>
              <a:path fill="darkenLess" w="105648" h="21600">
                <a:moveTo>
                  <a:pt x="10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48" y="20200"/>
                </a:lnTo>
                <a:close/>
              </a:path>
              <a:path fill="lighten" w="10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1219320" y="38098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1219320" y="4205160"/>
            <a:ext cx="1600200" cy="366840"/>
          </a:xfrm>
          <a:custGeom>
            <a:avLst/>
            <a:gdLst>
              <a:gd name="textAreaLeft" fmla="*/ 23760 w 1600200"/>
              <a:gd name="textAreaRight" fmla="*/ 1576440 w 16002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94151" h="21600">
                <a:moveTo>
                  <a:pt x="0" y="0"/>
                </a:moveTo>
                <a:lnTo>
                  <a:pt x="94151" y="0"/>
                </a:lnTo>
                <a:lnTo>
                  <a:pt x="94151" y="21600"/>
                </a:lnTo>
                <a:lnTo>
                  <a:pt x="0" y="21600"/>
                </a:lnTo>
                <a:close/>
              </a:path>
              <a:path fill="lightenLess" w="94151" h="21600">
                <a:moveTo>
                  <a:pt x="0" y="0"/>
                </a:moveTo>
                <a:lnTo>
                  <a:pt x="94151" y="0"/>
                </a:lnTo>
                <a:lnTo>
                  <a:pt x="92751" y="1400"/>
                </a:lnTo>
                <a:lnTo>
                  <a:pt x="1400" y="1400"/>
                </a:lnTo>
                <a:close/>
              </a:path>
              <a:path fill="darken" w="94151" h="21600">
                <a:moveTo>
                  <a:pt x="94151" y="0"/>
                </a:moveTo>
                <a:lnTo>
                  <a:pt x="94151" y="21600"/>
                </a:lnTo>
                <a:lnTo>
                  <a:pt x="92751" y="20200"/>
                </a:lnTo>
                <a:lnTo>
                  <a:pt x="92751" y="1400"/>
                </a:lnTo>
                <a:close/>
              </a:path>
              <a:path fill="darkenLess" w="94151" h="21600">
                <a:moveTo>
                  <a:pt x="94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751" y="20200"/>
                </a:lnTo>
                <a:close/>
              </a:path>
              <a:path fill="lighten" w="94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1219320" y="46483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3:58:38Z</dcterms:modified>
  <cp:revision>597</cp:revision>
  <dc:subject/>
  <dc:title>Presentazione di PowerPoint</dc:title>
</cp:coreProperties>
</file>